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0FE-6A85-4351-ACFB-8B347120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3E0-EA5B-4ADD-A2FC-317BFBD0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512-DA9D-4B5B-B86E-CC0251D5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B0D-C45B-4C1A-97E8-AB28F2D1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B636-A69A-4BE4-8793-5A14291A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6C91-DFF2-46E4-B0C2-EC90525F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8578-9F95-473A-B8FB-FFEF30E8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793-6748-4A4F-8B81-F6C0E24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ABB9-6911-4424-ABA1-ED9EFC9B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AAAF-F996-48B1-8D77-EF5919C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A1AA-45B9-4C7A-9114-0C23EC52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682-E156-4DDE-A1C5-1955EA2E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FF2-21FC-4F54-8126-B8E89C5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772-FCD2-46D0-9FB1-E113D14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556D-685B-47E6-841E-362602EE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0F5-0377-4E35-B02C-F8EA1ACC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88C6-F57D-4F3B-B850-D3F6716D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870-A3A5-4868-ACE3-F3060163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D93-3EBE-40E9-921A-37194E10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64A-4026-49B6-B7E2-9005A16C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85D-D703-443D-94B6-B8C6C468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C5D-26B1-45A1-A579-0A5E89E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2CF-104B-48EC-B94A-07F93ECB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F9A2-1414-42D4-AC0A-C609098A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600C-F6A7-4A66-AE63-362D05F8E6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E08-5E2C-4BB6-80C9-B70C1707F6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vel.nationalgeographic.com/places/countries/country_kazakhstan.html" TargetMode="External"/><Relationship Id="rId2" Type="http://schemas.openxmlformats.org/officeDocument/2006/relationships/hyperlink" Target="https://www.cia.gov/library/publications/the-world-factbook/geos/kz.html" TargetMode="External"/><Relationship Id="rId3" Type="http://schemas.openxmlformats.org/officeDocument/2006/relationships/hyperlink" Target="http://news.bbc.co.uk/2/hi/asia-pacific/7878824.stm" TargetMode="External"/><Relationship Id="rId4" Type="http://schemas.openxmlformats.org/officeDocument/2006/relationships/hyperlink" Target="http://aboutkazakhstan.com/images/pavlodar-kazakhstan-region-views-6.jpg" TargetMode="External"/><Relationship Id="rId5" Type="http://schemas.openxmlformats.org/officeDocument/2006/relationships/hyperlink" Target="http://aboutkazakhstan.com/images/south-kazakhstan-region-views-1.jpg" TargetMode="External"/><Relationship Id="rId6" Type="http://schemas.openxmlformats.org/officeDocument/2006/relationships/hyperlink" Target="http://industry.bnet.com/energy/images/caspian_sea_j2005.jpg" TargetMode="External"/><Relationship Id="rId7" Type="http://schemas.openxmlformats.org/officeDocument/2006/relationships/hyperlink" Target="http://www.wild-natures.com/picture/map_kazakhstan_temperature_july.png" TargetMode="External"/><Relationship Id="rId8" Type="http://schemas.openxmlformats.org/officeDocument/2006/relationships/hyperlink" Target="http://www.wild-natures.com/picture/map_kazakhstan_temperature_january.png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Welcome to</a:t>
            </a:r>
            <a:br>
              <a:rPr sz="5800"/>
            </a:b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Kazakhsta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Cody Grimm, Alex Masenhei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laces to Vis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capitol, Astana there is a tower, Baiterek Tower. Total 105 meters, at 97 meters there is an observation deck .In the tower there is an art gallery, aquarium and a restaur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akol Lake is the biggest lake of the chain of Alakol lakes. Water is warm and a average temp of the water is 26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ork Cit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travel.nationalgeographic.com/places/countries/country_kazakhsta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s://www.cia.gov/library/publications/the-world-factbook/geos/kz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news.bbc.co.uk/2/hi/asia-pacific/7878824.s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http://aboutkazakhstan.com/images/pavlodar-kazakhstan-region-views-6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http://aboutkazakhstan.com/images/south-kazakhstan-region-views-1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6"/>
              </a:rPr>
              <a:t>http://industry.bnet.com/energy/images/caspian_sea_j2005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7"/>
              </a:rPr>
              <a:t>http://www.wild-natures.com/picture/map_kazakhstan_temperature_july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8"/>
              </a:rPr>
              <a:t>http://www.wild-natures.com/picture/map_kazakhstan_temperature_january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aboutkazakhstan.com/images/kazakhstan-political-government-systems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uniserv.kz/uploads/posts/2008-08/1220008071_1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www.faqs.org/docs/factbook/maps/kz-map.g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www.travel-images.com/kazakhstan15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www.allcountries.eu/PICTURE/kazakhstan/Astan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The Land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locked and dry l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ed in central As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t in the west and rises to high mountains in the e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 degrees North and 68 degrees E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717,300 Square Kilome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ightly less than four times the size of Tex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lds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iggest coun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Land Cont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west Caspian sea is polluted from pestici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kes Balqash that is located in the e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 deposits of petroleum, natural gas, iron ore and mangane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 use Arable land 8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arding countries are china, Kyrgyzstan, Russia, Turkmenistan, Uzbekist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5053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mate/Veget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en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d Win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 Sum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and is also a test site for nuclear weapons so the land is poisoned from the radioactiv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3848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915400" cy="3505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vernment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 name is Republic of Kazakh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ublic and has Presidential ru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tle power out of executive bra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pitol is Ast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5,090,000 People live t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fe Expectancy is 6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le to vote at the age of 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isto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me independent from the Soviet Union on December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9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constitution was adopted Januar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9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Constitution was adopted August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29360" y="1447920"/>
            <a:ext cx="3914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urrent Ev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azakhstan on Monday, February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agreed to letting the US to ship non-military items thru a transport to the parts of territory that the US has in Afghanist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2769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conom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8% Literac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bor force is 8.358 M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cy is the t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il distribu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source of income is from extracting minerals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employment rate is 6.9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iculture-31.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- 18.4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ces- 50%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3165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ul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ce Day is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December. It was started in 199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nguages spoken are mostly Russian and Kazak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religious are Muslim and Russian Orthodo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1:22Z</dcterms:created>
  <dc:creator>codyrgrimm</dc:creator>
  <dc:description/>
  <dc:language>en-US</dc:language>
  <cp:lastModifiedBy>codyrgrimm</cp:lastModifiedBy>
  <dcterms:modified xsi:type="dcterms:W3CDTF">2009-02-19T17:38:40Z</dcterms:modified>
  <cp:revision>14</cp:revision>
  <dc:subject/>
  <dc:title>Slide 1</dc:title>
</cp:coreProperties>
</file>